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4FF-5C72-413F-9D29-22719688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F273-7CCE-4486-97DE-DFEDA7E4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C2C6-CF2A-4C1D-89B7-CAD07A37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CC8-F452-466D-8194-B0C4AC31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0556-B187-4AA8-8557-C84B6AE0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88920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C6D-437C-49DC-A68C-F21CEA41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C3EC-345D-4E04-AE5B-F28BE2B3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891-A52F-47B9-9C1B-9EDA2873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F008-C102-4E64-984E-F2F584EA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E9EF-3895-46DD-AE2B-2811D180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AEDE-93AB-428A-BE1A-713FD01E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45C0-DD1D-4B6B-A42E-323D93F6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88920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5888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7792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-92160" y="-112680"/>
            <a:ext cx="92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第</a:t>
            </a: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6</a:t>
            </a: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章  应用系统开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69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8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E221-EAE7-41DB-A3DC-79D592F7D9BD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A80D-F97A-42B8-8BA2-461B06CE031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.png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image" Target="../media/image1.png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image" Target="../media/image1.png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" Target="slide27.xml"/><Relationship Id="rId9" Type="http://schemas.openxmlformats.org/officeDocument/2006/relationships/slide" Target="slide27.xml"/><Relationship Id="rId10" Type="http://schemas.openxmlformats.org/officeDocument/2006/relationships/slide" Target="slide27.xml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image" Target="../media/image1.png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6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章  应用系统开发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057040" y="2209680"/>
            <a:ext cx="5181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hlinkClick r:id="rId2" action="ppaction://hlinksldjump"/>
              </a:rPr>
              <a:t>﹡</a:t>
            </a: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hlinkClick r:id="rId3" action="ppaction://hlinksldjump"/>
              </a:rPr>
              <a:t> 6.1  汽车动画程序开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hlinkClick r:id="rId5" action="ppaction://hlinksldjump"/>
              </a:rPr>
              <a:t>﹡</a:t>
            </a: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hlinkClick r:id="rId6" action="ppaction://hlinksldjump"/>
              </a:rPr>
              <a:t> 6.2  发声系统程序开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647712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开   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71600" y="685800"/>
            <a:ext cx="64771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E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A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指向字符图形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从第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列位置开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显示汽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AL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E_SH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RET           MAI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LEAR_SCREEN PROC N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保护寄存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733920"/>
            <a:ext cx="594360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523880" y="609480"/>
            <a:ext cx="5715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屏幕上卷功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左上角行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左上角列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右下角行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9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右下角列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卷入行属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调用显示属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恢复寄存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676520" y="609480"/>
            <a:ext cx="52578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RE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返回主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LEAR_SCREEN  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E_SHAPE PROC N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保护寄存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         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        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3581280"/>
            <a:ext cx="502920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838080"/>
            <a:ext cx="76960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F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取当前显示方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U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清除计数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高字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[DI]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放循环次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指向字符图形表中的第一个字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HAR_C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保存循环次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INTE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INE_O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L_O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85800"/>
            <a:ext cx="66294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2040" indent="-662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LOT_NEXT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62040" indent="-662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DH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[DI+2]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；改变行列指针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62040" indent="-662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DL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[DI+3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62040" indent="-662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CMP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DL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；出屏否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62040" indent="-662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JB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MOV_CRS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62040" indent="-662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CALL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ER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62040" indent="-662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DI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62040" indent="-662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62040" indent="-662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CX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62040" indent="-662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B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62040" indent="-662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X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62040" indent="-662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R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90720" y="380880"/>
            <a:ext cx="746748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9240" indent="-8492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MOV_CRSR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49240" indent="-8492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；移动光标位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49240" indent="-8492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0H        MO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49240" indent="-8492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[DI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49240" indent="-8492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BL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[DI+1]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；取字符值及属性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49240" indent="-8492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CX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49240" indent="-8492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CX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49240" indent="-8492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09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；显示字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49240" indent="-8492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0H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49240" indent="-8492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C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49240" indent="-8492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指向下一个字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49240" indent="-8492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LOOP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LOT_N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49240" indent="-8492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CALL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DLY_QRTR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；调用延时子程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600200" y="762120"/>
            <a:ext cx="64771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AL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RAS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调用擦除子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M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HORT PLOT_N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E_SHAP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RASE PRO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N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HAR_C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I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INE_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L_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57400" y="2666880"/>
            <a:ext cx="495288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838080"/>
            <a:ext cx="7848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RASE_NEX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D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[DI+2]          AD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[DI+3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                     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[DI]              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                        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9                    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                        AD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O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RASE_N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HAR_C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76520" y="990720"/>
            <a:ext cx="61722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I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INE_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L_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L_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R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RAS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LY_QRTR PROC NEA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延时子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4495680"/>
            <a:ext cx="4953240" cy="4464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905120" y="914400"/>
            <a:ext cx="56386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1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8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1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12          DE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N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11          PO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X           R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Y_QRT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6781680" y="6324480"/>
            <a:ext cx="19814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3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6.1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汽车动画程序开发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57400" y="2362320"/>
            <a:ext cx="5105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98d43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hlinkClick r:id="rId3" action="ppaction://hlinksldjump"/>
              </a:rPr>
              <a:t>﹡</a:t>
            </a: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hlinkClick r:id="rId4" action="ppaction://hlinksldjump"/>
              </a:rPr>
              <a:t> 6.1.1  </a:t>
            </a: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ea typeface="黑体"/>
                <a:hlinkClick r:id="rId5" action="ppaction://hlinksldjump"/>
              </a:rPr>
              <a:t>字符图形显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98d43"/>
                </a:solidFill>
                <a:uFillTx/>
                <a:latin typeface="Arial"/>
                <a:hlinkClick r:id="rId7" action="ppaction://hlinksldjump"/>
              </a:rPr>
              <a:t> </a:t>
            </a: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hlinkClick r:id="rId8" action="ppaction://hlinksldjump"/>
              </a:rPr>
              <a:t>﹡</a:t>
            </a: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hlinkClick r:id="rId9" action="ppaction://hlinksldjump"/>
              </a:rPr>
              <a:t> 6.1.2  动画程序的开发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0" action="ppaction://hlinksldjump"/>
          </p:cNvPr>
          <p:cNvSpPr/>
          <p:nvPr/>
        </p:nvSpPr>
        <p:spPr>
          <a:xfrm>
            <a:off x="6781680" y="6324480"/>
            <a:ext cx="19814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1" action="ppaction://hlinksldjump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6.2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发声系统程序开发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3520" y="2133720"/>
            <a:ext cx="594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98d43"/>
                </a:solidFill>
                <a:uFillTx/>
                <a:latin typeface="Arial"/>
                <a:hlinkClick r:id="rId2" action="ppaction://hlinksldjump"/>
              </a:rPr>
              <a:t>  </a:t>
            </a: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hlinkClick r:id="rId3" action="ppaction://hlinksldjump"/>
              </a:rPr>
              <a:t>﹡</a:t>
            </a: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hlinkClick r:id="rId4" action="ppaction://hlinksldjump"/>
              </a:rPr>
              <a:t> 6.2.1      系统发声途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98d43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zh-CN" sz="2800" spc="-1" strike="noStrike" u="sng">
                <a:solidFill>
                  <a:srgbClr val="f98d43"/>
                </a:solidFill>
                <a:uFillTx/>
                <a:latin typeface="Arial"/>
                <a:hlinkClick r:id="rId7" action="ppaction://hlinksldjump"/>
              </a:rPr>
              <a:t> </a:t>
            </a: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hlinkClick r:id="rId8" action="ppaction://hlinksldjump"/>
              </a:rPr>
              <a:t>﹡</a:t>
            </a: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hlinkClick r:id="rId9" action="ppaction://hlinksldjump"/>
              </a:rPr>
              <a:t> 6.2.2     </a:t>
            </a:r>
            <a:r>
              <a:rPr b="0" lang="zh-CN" sz="2000" spc="-1" strike="noStrike" u="sng">
                <a:solidFill>
                  <a:srgbClr val="f98d43"/>
                </a:solidFill>
                <a:uFillTx/>
                <a:latin typeface="Arial"/>
                <a:ea typeface="黑体"/>
                <a:hlinkClick r:id="rId10" action="ppaction://hlinksldjump"/>
              </a:rPr>
              <a:t>发声应用程序举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rId11" action="ppaction://hlinksldjump"/>
          </p:cNvPr>
          <p:cNvSpPr/>
          <p:nvPr/>
        </p:nvSpPr>
        <p:spPr>
          <a:xfrm>
            <a:off x="6629400" y="6324480"/>
            <a:ext cx="21337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2" action="ppaction://hlinksldjump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6.2.1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系统发声途径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98d43"/>
                </a:solidFill>
                <a:uFillTx/>
                <a:latin typeface="Arial"/>
                <a:ea typeface="楷体_GB2312"/>
                <a:hlinkClick r:id="rId2" action="ppaction://hlinksldjump"/>
              </a:rPr>
              <a:t>1．8254定时器作为发声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98d43"/>
                </a:solidFill>
                <a:uFillTx/>
                <a:latin typeface="宋体"/>
                <a:hlinkClick r:id="rId4" action="ppaction://hlinksldjump"/>
              </a:rPr>
              <a:t>2．8255端口</a:t>
            </a:r>
            <a:r>
              <a:rPr b="0" lang="zh-CN" sz="2800" spc="-1" strike="noStrike" u="sng">
                <a:solidFill>
                  <a:srgbClr val="f98d43"/>
                </a:solidFill>
                <a:uFillTx/>
                <a:latin typeface="宋体"/>
                <a:hlinkClick r:id="rId5" action="ppaction://hlinksldjump"/>
              </a:rPr>
              <a:t>B（PB1</a:t>
            </a:r>
            <a:r>
              <a:rPr b="0" lang="zh-CN" sz="2800" spc="-1" strike="noStrike" u="sng">
                <a:solidFill>
                  <a:srgbClr val="f98d43"/>
                </a:solidFill>
                <a:uFillTx/>
                <a:latin typeface="宋体"/>
                <a:hlinkClick r:id="rId6" action="ppaction://hlinksldjump"/>
              </a:rPr>
              <a:t>位）作为发声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>
            <a:hlinkClick r:id="rId7" action="ppaction://hlinksldjump"/>
          </p:cNvPr>
          <p:cNvSpPr/>
          <p:nvPr/>
        </p:nvSpPr>
        <p:spPr>
          <a:xfrm>
            <a:off x="6781680" y="6324480"/>
            <a:ext cx="19814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8" action="ppaction://hlinksldjump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8254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定时器作为发声源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1905120"/>
            <a:ext cx="7010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将定时器产生的方波信号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25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端口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相与来控制扬声器发声的（如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.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），因此当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B1=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时，才能控制扬声器的音调。在系统中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25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口地址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用指令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IN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057400" y="48006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.2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控制扬声器发声原理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371600" y="990720"/>
          <a:ext cx="6378480" cy="34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637848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362320" y="990720"/>
            <a:ext cx="48765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ROM  BIO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的发声子程序如下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EE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ROC  NEAR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110110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3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33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2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2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RT_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133720" y="533520"/>
            <a:ext cx="54100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RT_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7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N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RT_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                  BEE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81680" y="6324480"/>
            <a:ext cx="19814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95904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8255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端口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PB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位）作为发声源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2057400"/>
            <a:ext cx="701028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25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端口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或相应的等效电路）最低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800" spc="-1" strike="noStrike" baseline="-30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关闭定时器声源的输出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OUT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常高电位（方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致）。又通过使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25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端口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或相应等效电路）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置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或置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按指定的频率来编程），便能让“与”门输出一周期性变化的方波，使扬声器发声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6292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6.2.2 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发声应用程序举例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362320" y="2057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98d43"/>
                </a:solidFill>
                <a:uFillTx/>
                <a:latin typeface="宋体"/>
                <a:hlinkClick r:id="rId1" action="ppaction://hlinksldjump"/>
              </a:rPr>
              <a:t>1</a:t>
            </a:r>
            <a:r>
              <a:rPr b="0" lang="zh-CN" sz="2800" spc="-1" strike="noStrike" u="sng">
                <a:solidFill>
                  <a:srgbClr val="f98d43"/>
                </a:solidFill>
                <a:uFillTx/>
                <a:latin typeface="宋体"/>
                <a:hlinkClick r:id="rId2" action="ppaction://hlinksldjump"/>
              </a:rPr>
              <a:t>．扬声器发声通用子程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98d43"/>
                </a:solidFill>
                <a:uFillTx/>
                <a:latin typeface="宋体"/>
                <a:hlinkClick r:id="rId3" action="ppaction://hlinksldjump"/>
              </a:rPr>
              <a:t>2．</a:t>
            </a:r>
            <a:r>
              <a:rPr b="0" lang="zh-CN" sz="2800" spc="-1" strike="noStrike" u="sng">
                <a:solidFill>
                  <a:srgbClr val="f98d43"/>
                </a:solidFill>
                <a:uFillTx/>
                <a:latin typeface="宋体"/>
                <a:hlinkClick r:id="rId4" action="ppaction://hlinksldjump"/>
              </a:rPr>
              <a:t>演奏乐曲程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98d43"/>
                </a:solidFill>
                <a:uFillTx/>
                <a:latin typeface="宋体"/>
                <a:hlinkClick r:id="rId5" action="ppaction://hlinksldjump"/>
              </a:rPr>
              <a:t>3．定时报警程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913320"/>
            <a:ext cx="61722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楷体_GB2312"/>
              </a:rPr>
              <a:t>．扬声器发声通用子程序</a:t>
            </a:r>
            <a:endParaRPr b="1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752480"/>
            <a:ext cx="6553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06480" indent="-1806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【例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6.2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】通用发声程序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GENSOUND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06480" indent="-18064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UBLI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GENS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06480" indent="-18064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EGMENT PARA ‘CODE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06480" indent="-18064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SSUME  C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06480" indent="-18064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GENSOUN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RO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F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06480" indent="-18064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保存将要用到的寄存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06480" indent="-18064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838080"/>
            <a:ext cx="85345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CX         PUSH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0B6H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；向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8253-5/8254-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计数器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写控制字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43H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；方式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双字节写和二进制计数方式写到控制口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12H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；设置被除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533H*8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DIV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；其商（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）为预置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42H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；先送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LS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6.1.1 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字符图形显示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1905120"/>
            <a:ext cx="6934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字符图形既可以在显示器上以简单的黑白图形字符显示，也可以在彩色显示器上以彩色的图形字符显示。通过调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NT 10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H=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L=0~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设置不同的显示方式，调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0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H=09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H=0A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等可显示字符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6781680" y="6324480"/>
            <a:ext cx="19814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2" action="ppaction://hlinksldjump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14400" y="685800"/>
            <a:ext cx="72388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95256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2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后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S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95256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读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25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端口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原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95256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保存端口原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95256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95256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接通扬声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95256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WAIT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  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FF0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0486/DX2/6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95256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ELAY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OOP  DELAY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循环次数为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FF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95256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E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循环持续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95256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NZ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WAI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23880" y="990720"/>
            <a:ext cx="64771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写回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口原值，关闭扬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恢复寄存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           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            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RE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子程序结束返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GENSOUN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6324480"/>
            <a:ext cx="19814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52480" y="920160"/>
            <a:ext cx="5562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演奏乐曲程序</a:t>
            </a:r>
            <a:endParaRPr b="1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09480" y="2465280"/>
            <a:ext cx="7772040" cy="1954080"/>
            <a:chOff x="609480" y="2465280"/>
            <a:chExt cx="7772040" cy="1954080"/>
          </a:xfrm>
        </p:grpSpPr>
        <p:grpSp>
          <p:nvGrpSpPr>
            <p:cNvPr id="224" name=""/>
            <p:cNvGrpSpPr/>
            <p:nvPr/>
          </p:nvGrpSpPr>
          <p:grpSpPr>
            <a:xfrm>
              <a:off x="614160" y="2469960"/>
              <a:ext cx="7761960" cy="1944000"/>
              <a:chOff x="614160" y="2469960"/>
              <a:chExt cx="7761960" cy="194400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614160" y="2469960"/>
                <a:ext cx="848520" cy="601560"/>
                <a:chOff x="614160" y="2469960"/>
                <a:chExt cx="848520" cy="601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684720" y="2469960"/>
                  <a:ext cx="70740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音名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14160" y="2469960"/>
                  <a:ext cx="84852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463040" y="2469960"/>
                <a:ext cx="460440" cy="601560"/>
                <a:chOff x="1463040" y="2469960"/>
                <a:chExt cx="460440" cy="6015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1533600" y="246996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463040" y="246996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1924200" y="2469960"/>
                <a:ext cx="460440" cy="601560"/>
                <a:chOff x="1924200" y="2469960"/>
                <a:chExt cx="460440" cy="6015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994760" y="246996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D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924200" y="246996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2385000" y="2469960"/>
                <a:ext cx="460440" cy="601560"/>
                <a:chOff x="2385000" y="2469960"/>
                <a:chExt cx="460440" cy="6015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2455200" y="246996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385000" y="246996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846160" y="2469960"/>
                <a:ext cx="460080" cy="601560"/>
                <a:chOff x="2846160" y="2469960"/>
                <a:chExt cx="460080" cy="6015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916360" y="246996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F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846160" y="2469960"/>
                  <a:ext cx="46008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3306960" y="2469960"/>
                <a:ext cx="460440" cy="601560"/>
                <a:chOff x="3306960" y="2469960"/>
                <a:chExt cx="460440" cy="6015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3377520" y="246996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G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306960" y="246996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767760" y="2469960"/>
                <a:ext cx="460440" cy="601560"/>
                <a:chOff x="3767760" y="2469960"/>
                <a:chExt cx="460440" cy="6015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3838320" y="246996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767760" y="246996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228920" y="2469960"/>
                <a:ext cx="460080" cy="601560"/>
                <a:chOff x="4228920" y="2469960"/>
                <a:chExt cx="460080" cy="6015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299120" y="246996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228920" y="2469960"/>
                  <a:ext cx="46008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689360" y="2469960"/>
                <a:ext cx="460440" cy="601560"/>
                <a:chOff x="4689360" y="2469960"/>
                <a:chExt cx="460440" cy="6015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4759920" y="246996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689360" y="246996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150520" y="2469960"/>
                <a:ext cx="460440" cy="601560"/>
                <a:chOff x="5150520" y="2469960"/>
                <a:chExt cx="460440" cy="6015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221080" y="246996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D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150520" y="246996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5611320" y="2469960"/>
                <a:ext cx="460440" cy="601560"/>
                <a:chOff x="5611320" y="2469960"/>
                <a:chExt cx="460440" cy="6015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5681880" y="246996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611320" y="246996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6072480" y="2469960"/>
                <a:ext cx="460080" cy="601560"/>
                <a:chOff x="6072480" y="2469960"/>
                <a:chExt cx="460080" cy="6015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6142680" y="246996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F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072480" y="2469960"/>
                  <a:ext cx="46008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532920" y="2469960"/>
                <a:ext cx="460440" cy="601560"/>
                <a:chOff x="6532920" y="2469960"/>
                <a:chExt cx="460440" cy="6015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603480" y="246996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G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32920" y="246996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94080" y="2469960"/>
                <a:ext cx="460440" cy="601560"/>
                <a:chOff x="6994080" y="2469960"/>
                <a:chExt cx="460440" cy="6015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64640" y="246996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94080" y="246996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7454880" y="2469960"/>
                <a:ext cx="460440" cy="601560"/>
                <a:chOff x="7454880" y="2469960"/>
                <a:chExt cx="460440" cy="6015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525080" y="246996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454880" y="246996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7916040" y="2469960"/>
                <a:ext cx="460080" cy="601560"/>
                <a:chOff x="7916040" y="2469960"/>
                <a:chExt cx="460080" cy="6015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7986240" y="246996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916040" y="2469960"/>
                  <a:ext cx="46008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614160" y="3071880"/>
                <a:ext cx="848520" cy="601560"/>
                <a:chOff x="614160" y="3071880"/>
                <a:chExt cx="848520" cy="6015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84720" y="3071880"/>
                  <a:ext cx="70740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唱名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14160" y="3071880"/>
                  <a:ext cx="84852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1463040" y="3071880"/>
                <a:ext cx="460440" cy="601560"/>
                <a:chOff x="1463040" y="3071880"/>
                <a:chExt cx="460440" cy="6015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1533600" y="307188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463040" y="307188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1924200" y="3071880"/>
                <a:ext cx="460440" cy="601560"/>
                <a:chOff x="1924200" y="3071880"/>
                <a:chExt cx="460440" cy="6015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1994760" y="307188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924200" y="307188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2385000" y="3071880"/>
                <a:ext cx="460440" cy="601560"/>
                <a:chOff x="2385000" y="3071880"/>
                <a:chExt cx="460440" cy="6015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455200" y="307188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385000" y="307188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846160" y="3071880"/>
                <a:ext cx="460080" cy="601560"/>
                <a:chOff x="2846160" y="3071880"/>
                <a:chExt cx="460080" cy="6015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916360" y="307188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846160" y="3071880"/>
                  <a:ext cx="46008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3306960" y="3071880"/>
                <a:ext cx="460440" cy="601560"/>
                <a:chOff x="3306960" y="3071880"/>
                <a:chExt cx="460440" cy="6015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3377520" y="307188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306960" y="307188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767760" y="3071880"/>
                <a:ext cx="460440" cy="601560"/>
                <a:chOff x="3767760" y="3071880"/>
                <a:chExt cx="460440" cy="6015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838320" y="307188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767760" y="307188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228920" y="3071880"/>
                <a:ext cx="460080" cy="601560"/>
                <a:chOff x="4228920" y="3071880"/>
                <a:chExt cx="460080" cy="6015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99120" y="307188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228920" y="3071880"/>
                  <a:ext cx="46008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689360" y="3071880"/>
                <a:ext cx="460440" cy="601560"/>
                <a:chOff x="4689360" y="3071880"/>
                <a:chExt cx="460440" cy="6015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759920" y="307188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689360" y="307188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5150520" y="3071880"/>
                <a:ext cx="460440" cy="601560"/>
                <a:chOff x="5150520" y="3071880"/>
                <a:chExt cx="460440" cy="60156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221080" y="307188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150520" y="307188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611320" y="3071880"/>
                <a:ext cx="460440" cy="601560"/>
                <a:chOff x="5611320" y="3071880"/>
                <a:chExt cx="460440" cy="60156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681880" y="307188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611320" y="307188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072480" y="3071880"/>
                <a:ext cx="460080" cy="601560"/>
                <a:chOff x="6072480" y="3071880"/>
                <a:chExt cx="460080" cy="60156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142680" y="307188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72480" y="3071880"/>
                  <a:ext cx="46008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6532920" y="3071880"/>
                <a:ext cx="460440" cy="601560"/>
                <a:chOff x="6532920" y="3071880"/>
                <a:chExt cx="460440" cy="60156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6603480" y="307188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532920" y="307188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6994080" y="3071880"/>
                <a:ext cx="460440" cy="601560"/>
                <a:chOff x="6994080" y="3071880"/>
                <a:chExt cx="460440" cy="60156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7064640" y="3071880"/>
                  <a:ext cx="3189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994080" y="307188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7454880" y="3071880"/>
                <a:ext cx="460440" cy="601560"/>
                <a:chOff x="7454880" y="3071880"/>
                <a:chExt cx="460440" cy="6015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7525080" y="307188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454880" y="3071880"/>
                  <a:ext cx="46044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916040" y="3071880"/>
                <a:ext cx="460080" cy="601560"/>
                <a:chOff x="7916040" y="3071880"/>
                <a:chExt cx="460080" cy="60156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986240" y="3071880"/>
                  <a:ext cx="319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i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916040" y="3071880"/>
                  <a:ext cx="460080" cy="60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14160" y="3673800"/>
                <a:ext cx="848520" cy="740160"/>
                <a:chOff x="614160" y="3673800"/>
                <a:chExt cx="848520" cy="74016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84720" y="3673800"/>
                  <a:ext cx="70740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频率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(Hz)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14160" y="3673800"/>
                  <a:ext cx="84852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1463040" y="3673800"/>
                <a:ext cx="460440" cy="740160"/>
                <a:chOff x="1463040" y="3673800"/>
                <a:chExt cx="460440" cy="74016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533600" y="3673800"/>
                  <a:ext cx="31932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3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463040" y="3673800"/>
                  <a:ext cx="46044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1924200" y="3673800"/>
                <a:ext cx="460440" cy="740160"/>
                <a:chOff x="1924200" y="3673800"/>
                <a:chExt cx="460440" cy="7401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1994760" y="3673800"/>
                  <a:ext cx="31896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47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924200" y="3673800"/>
                  <a:ext cx="46044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2385000" y="3673800"/>
                <a:ext cx="460440" cy="740160"/>
                <a:chOff x="2385000" y="3673800"/>
                <a:chExt cx="460440" cy="7401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2455200" y="3673800"/>
                  <a:ext cx="31932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65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385000" y="3673800"/>
                  <a:ext cx="46044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2846160" y="3673800"/>
                <a:ext cx="460080" cy="740160"/>
                <a:chOff x="2846160" y="3673800"/>
                <a:chExt cx="460080" cy="7401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2916360" y="3673800"/>
                  <a:ext cx="31932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75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846160" y="3673800"/>
                  <a:ext cx="46008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3306960" y="3673800"/>
                <a:ext cx="460440" cy="740160"/>
                <a:chOff x="3306960" y="3673800"/>
                <a:chExt cx="460440" cy="74016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3377520" y="3673800"/>
                  <a:ext cx="31896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96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306960" y="3673800"/>
                  <a:ext cx="46044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767760" y="3673800"/>
                <a:ext cx="460440" cy="740160"/>
                <a:chOff x="3767760" y="3673800"/>
                <a:chExt cx="460440" cy="74016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838320" y="3673800"/>
                  <a:ext cx="31896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22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767760" y="3673800"/>
                  <a:ext cx="46044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4228920" y="3673800"/>
                <a:ext cx="460080" cy="740160"/>
                <a:chOff x="4228920" y="3673800"/>
                <a:chExt cx="460080" cy="7401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299120" y="3673800"/>
                  <a:ext cx="31932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247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228920" y="3673800"/>
                  <a:ext cx="46008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689360" y="3673800"/>
                <a:ext cx="460440" cy="740160"/>
                <a:chOff x="4689360" y="3673800"/>
                <a:chExt cx="460440" cy="74016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4759920" y="3673800"/>
                  <a:ext cx="31932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26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689360" y="3673800"/>
                  <a:ext cx="46044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150520" y="3673800"/>
                <a:ext cx="460440" cy="740160"/>
                <a:chOff x="5150520" y="3673800"/>
                <a:chExt cx="460440" cy="7401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221080" y="3673800"/>
                  <a:ext cx="31896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294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150520" y="3673800"/>
                  <a:ext cx="46044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5611320" y="3673800"/>
                <a:ext cx="460440" cy="740160"/>
                <a:chOff x="5611320" y="3673800"/>
                <a:chExt cx="460440" cy="74016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5681880" y="3673800"/>
                  <a:ext cx="31896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33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611320" y="3673800"/>
                  <a:ext cx="46044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6072480" y="3673800"/>
                <a:ext cx="460080" cy="740160"/>
                <a:chOff x="6072480" y="3673800"/>
                <a:chExt cx="460080" cy="74016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6142680" y="3673800"/>
                  <a:ext cx="31932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349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072480" y="3673800"/>
                  <a:ext cx="46008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6532920" y="3673800"/>
                <a:ext cx="460440" cy="740160"/>
                <a:chOff x="6532920" y="3673800"/>
                <a:chExt cx="460440" cy="7401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6603480" y="3673800"/>
                  <a:ext cx="31896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39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532920" y="3673800"/>
                  <a:ext cx="46044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6994080" y="3673800"/>
                <a:ext cx="460440" cy="740160"/>
                <a:chOff x="6994080" y="3673800"/>
                <a:chExt cx="460440" cy="74016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7064640" y="3673800"/>
                  <a:ext cx="31896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44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994080" y="3673800"/>
                  <a:ext cx="46044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7454880" y="3673800"/>
                <a:ext cx="460440" cy="740160"/>
                <a:chOff x="7454880" y="3673800"/>
                <a:chExt cx="460440" cy="74016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7525080" y="3673800"/>
                  <a:ext cx="31932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49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454880" y="3673800"/>
                  <a:ext cx="46044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7916040" y="3673800"/>
                <a:ext cx="460080" cy="740160"/>
                <a:chOff x="7916040" y="3673800"/>
                <a:chExt cx="460080" cy="74016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7986240" y="3673800"/>
                  <a:ext cx="31932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52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916040" y="3673800"/>
                  <a:ext cx="46008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9" name=""/>
            <p:cNvSpPr/>
            <p:nvPr/>
          </p:nvSpPr>
          <p:spPr>
            <a:xfrm>
              <a:off x="609480" y="2465280"/>
              <a:ext cx="7772040" cy="1954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362320" y="19051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黑体"/>
              </a:rPr>
              <a:t>表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6.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黑体"/>
              </a:rPr>
              <a:t>音律与频率对应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219320" y="1447920"/>
            <a:ext cx="70102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程序如下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ITLE MUSIC –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乐曲“玛丽有只小羊羔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汇编过程：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ASM MUSIC.ASM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连接过程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INK MUSIC+GENL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XTRN GENSOUN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FA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定义外部调用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ACK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GMENT  PARA  STACK ‘STACK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B 64 DU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‘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ACK’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ACK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3036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【例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6.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】以乐谱“玛丽有只小羊羔”为例编写演奏程序</a:t>
            </a:r>
            <a:endParaRPr b="1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"/>
          <p:cNvSpPr/>
          <p:nvPr/>
        </p:nvSpPr>
        <p:spPr>
          <a:xfrm>
            <a:off x="1600200" y="5943600"/>
            <a:ext cx="594360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14400" y="838080"/>
            <a:ext cx="73915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SEGMENT  PARA ‘DATA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US_FREQ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DW 33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9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6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9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 DU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3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；为演奏的乐曲定义一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W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 DU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9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3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9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9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频率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W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3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9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6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9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 DU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3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W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9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9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3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9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6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-1MUS_TIME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W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 DU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*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0*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为演奏的乐曲定义一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W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 DU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*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*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0*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；节拍时间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828800" y="609480"/>
            <a:ext cx="60199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W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2 DU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*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0*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GME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ARA ‘CODE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SSUME  C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SSUME  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USI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RO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F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            SU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指向数据指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16080" y="6869160"/>
            <a:ext cx="4718160" cy="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6080" y="6869160"/>
            <a:ext cx="4718160" cy="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6080" y="6869160"/>
            <a:ext cx="4718160" cy="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09680" y="1981080"/>
            <a:ext cx="434340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85800" y="990720"/>
            <a:ext cx="8001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E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US_FREQ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将频率表的偏移地址送入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E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US_TIM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将节拍时间表的偏移地址送入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FREQ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[SI]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取音符频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M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结束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_MU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是，退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[BP]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取音符持续时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143000" y="838080"/>
            <a:ext cx="71629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AL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GENSOUN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调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GENSOUN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发音子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D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频率表指针增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D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时间表指针增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M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FREQ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继续演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_MU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RE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返回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USI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4419720"/>
            <a:ext cx="470700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81680" y="6324480"/>
            <a:ext cx="19814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楷体_GB2312"/>
              </a:rPr>
              <a:t>．定时报警程序</a:t>
            </a:r>
            <a:br>
              <a:rPr sz="3200"/>
            </a:b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2743200" y="1295280"/>
          <a:ext cx="35132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295280"/>
                    <a:ext cx="35132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6479640" y="1371600"/>
            <a:ext cx="9118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.3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实时钟中断处理流程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990720" y="1600200"/>
            <a:ext cx="72388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利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 1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断实现定时报警，本程序在执行后，若设置成功则首先显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字符串“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t up all right ”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并使扬声器发声，这表明设置成功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分钟（为定时时间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读者也可自己设定）后屏幕显示“！”并发声，以示报警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汇编过程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ASM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ARM.A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连接过程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INK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ARM+GENS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XTRN GENSOUN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FA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定义外部调用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842400"/>
            <a:ext cx="6782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【例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6.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TITLE  ALARM——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定时报警程序</a:t>
            </a:r>
            <a:endParaRPr b="1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0" y="2057400"/>
            <a:ext cx="457200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．动画显示的基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．程序举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89028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6.1.2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动画程序的开发 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143000" y="990720"/>
            <a:ext cx="6858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C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GMENT PARA STACK ‘STACK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B 64 DU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CK﹒﹒﹒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C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GMENT  PARA  PUBLIC ‘DATA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B ‘Set up all right .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B 1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’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$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2895480"/>
            <a:ext cx="563904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5638680"/>
            <a:ext cx="579132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990720" y="838080"/>
            <a:ext cx="72388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SEGMENT  PARA  PUBLIC ‘CODE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SSUME  C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ACK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TRY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ROC  F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保存旧的数据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U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读取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 4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断向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371600" y="914400"/>
            <a:ext cx="69343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5H              INT          21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入栈保护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EP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  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清除实时钟报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A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EP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进位位为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则转移（成功则转移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置新的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 4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断向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G  ALA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3886200"/>
            <a:ext cx="51814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990720" y="1143000"/>
            <a:ext cx="7238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LE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ALARM               MOV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5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1H                                CLI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关中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STEP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利用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INT 1A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读当前实时钟时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A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时、分、秒分别置入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CL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J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STEP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不成功再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C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ADD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增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分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A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调整为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BCD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码格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CMP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60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是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分吗（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BCD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数）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14400" y="914400"/>
            <a:ext cx="76960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30200" indent="-133020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J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TEP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不是，则转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0200" indent="-133020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0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是，改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0200" indent="-13302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TEP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OV    C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得到报警时刻的分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0200" indent="-133020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仍为原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0200" indent="-133020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A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设置报警时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0200" indent="-133020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J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TEP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不成功重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0200" indent="-133020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TI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开中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0200" indent="-133020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0200" indent="-1330200" algn="just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ETU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OV   A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设置成功发出“嘟嘟”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523880" y="914400"/>
            <a:ext cx="60962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7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7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振铃控制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 21H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号功能实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O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TU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循环发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FFSET BJ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显示“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t up all right .”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字符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057400" y="6019920"/>
            <a:ext cx="495288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914400" y="914400"/>
            <a:ext cx="76201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AINP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    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50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延时程序段，等待报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AINP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O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AIN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E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N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AINP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RE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恢复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 4AH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原中断向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A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5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676520" y="914400"/>
            <a:ext cx="64767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           R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TRY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ARM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RO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报警中断服务程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            PU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              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显示字符‘！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‘！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209680" y="2286000"/>
            <a:ext cx="502920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371600" y="838080"/>
            <a:ext cx="60958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发音频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40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发音延迟时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AL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GENSOUN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调用通用发声子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                         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                       IR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ARM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TRY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程序结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752480" y="4952880"/>
            <a:ext cx="541044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62120" y="709200"/>
            <a:ext cx="777240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【例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6.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】用软中断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INT 60H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发声中断服务程序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INT 61H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以及软中断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INT 62H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INT 63H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实现字符串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intel 80486 DX2/66 CPU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显示、扬声器发声和变色三角形的显示功能，定时器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ICH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中断作为计数器使用。</a:t>
            </a:r>
            <a:endParaRPr b="1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2286000"/>
            <a:ext cx="6324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GMENT  PARA ‘DATA’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数据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B  0D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‘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el 80486 DX2/66 CPU $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W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2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B ?       DAT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62320" y="2590920"/>
            <a:ext cx="5333760" cy="0"/>
          </a:xfrm>
          <a:prstGeom prst="line">
            <a:avLst/>
          </a:prstGeom>
          <a:ln w="93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86000" y="5334120"/>
            <a:ext cx="5334120" cy="0"/>
          </a:xfrm>
          <a:prstGeom prst="line">
            <a:avLst/>
          </a:prstGeom>
          <a:ln w="93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71600" y="1905120"/>
            <a:ext cx="7315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屏幕上显示出动画的效果，可分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步进行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屏幕上显示图形（单字符或多字符图形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延迟一个时间周期，这样图形更清晰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清除图形。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改变图形的行列坐标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返回第一步，重复上述过程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．动画显示的基础</a:t>
            </a:r>
            <a:endParaRPr b="1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990720" y="91440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A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GMENT  PARA  STACK  ‘STAC’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堆栈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A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W  100  DUP(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A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GMENT  PARA  ‘CODE’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代码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SSUME  C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SSUME  S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A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A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RO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FA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主程序开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1295280" y="2743200"/>
            <a:ext cx="5715000" cy="76320"/>
          </a:xfrm>
          <a:prstGeom prst="line">
            <a:avLst/>
          </a:prstGeom>
          <a:ln w="93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914400" y="914400"/>
            <a:ext cx="70102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                  XOR       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                 MOV      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        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L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关中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C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保存定时器时钟中断向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5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838080" y="609480"/>
            <a:ext cx="7848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                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FFSET  RING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置定时器时钟中断向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G  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CH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读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M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的屏蔽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143000" y="609480"/>
            <a:ext cx="70102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111110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开放中断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并保留中断屏蔽设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将新屏蔽码写入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M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入栈保护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寄存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FFSET I6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6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偏移地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G I6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6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段基地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762120" y="838080"/>
            <a:ext cx="73911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E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6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置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软中断向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G I6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E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6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置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2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软中断向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G I6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066680" y="1066680"/>
            <a:ext cx="7239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H                      MOV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2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E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6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置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3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软中断向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EG I63               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H                      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3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                                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出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开中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219320" y="762120"/>
            <a:ext cx="71625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ELAY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0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调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0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断，使程序进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ELAY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E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循环状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NZ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ELAY1                DE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NZ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恢复定时器控制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C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中断向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                           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H               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显示器恢复文本状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295280" y="1066680"/>
            <a:ext cx="67820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I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               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1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RET                               STA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RING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RO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FA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定时器中断服务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                     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            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2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计数单元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676520" y="2438280"/>
            <a:ext cx="5105160" cy="7632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219320" y="838080"/>
            <a:ext cx="69339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1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 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RE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中断服务结束返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RING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6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RO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FA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0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断服务程序完成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2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断的调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E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显示‘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el 80486 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752480" y="3352680"/>
            <a:ext cx="495324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1600200" y="914400"/>
            <a:ext cx="58672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/66 CPU‘                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M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2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中断延时到否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N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1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到，则转置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2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否则使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2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清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用发声中断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 61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2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用延时绘图中断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 62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1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5384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Untitled-1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952880" cy="3195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09680" y="4800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.1 “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汽车”各字符的相对位移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99072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990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0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3200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0,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3733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0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0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0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657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1,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2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295280" y="762120"/>
            <a:ext cx="662940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RE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中断服务结束返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6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6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RO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FA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声中断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 61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                       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40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置发音持续时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255A PB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口内容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1111100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24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2400" spc="-1" strike="noStrike" baseline="-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位置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28800" y="2133720"/>
            <a:ext cx="518148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990720" y="990720"/>
            <a:ext cx="72388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XO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0000010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取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1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口，控制扬声器发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F600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置方波信号频率变换时间常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O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2                   DE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NZ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1                    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恢复现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                   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R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6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066680" y="762120"/>
            <a:ext cx="7086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6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RO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FA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延时调用绘图中断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 63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            PUSH   DX    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4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O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2                          DE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NZ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3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调用软中断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3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          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                IR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6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828800" y="914400"/>
            <a:ext cx="5410080" cy="7632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066680" y="685800"/>
            <a:ext cx="7086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6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RO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FA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绘图中断程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 63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            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            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             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2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置显示模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图形方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20*20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图形色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置图形起点行坐标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=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523880" y="990720"/>
            <a:ext cx="462276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143000" y="91440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图形第一行点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3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2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图形起点列坐标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=1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入栈保护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写点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号功能调用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修改写点列坐标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=CX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914400" y="99072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U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修改写点计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3=D3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NZ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判断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3=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？非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3=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出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D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3=D3+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修改点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出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=DX+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起点行坐标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E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=CX-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起点列坐标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N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=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？非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N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=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=AL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209680" y="762120"/>
            <a:ext cx="5562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M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=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JN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非，转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置文本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0*2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模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恢复现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219320" y="1143000"/>
            <a:ext cx="6400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O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R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6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N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TA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结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514600" y="3048120"/>
            <a:ext cx="448956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81680" y="6324480"/>
            <a:ext cx="19814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520" y="144720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Thank you very much !</a:t>
            </a:r>
            <a:endParaRPr b="1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">
            <a:hlinkClick r:id="rId1" action="ppaction://hlinksldjump"/>
          </p:cNvPr>
          <p:cNvSpPr/>
          <p:nvPr/>
        </p:nvSpPr>
        <p:spPr>
          <a:xfrm>
            <a:off x="6629400" y="6324480"/>
            <a:ext cx="21337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2" action="ppaction://hlinksldjump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>
            <a:hlinkClick r:id="" action="ppaction://hlinkshowjump?jump=endshow"/>
          </p:cNvPr>
          <p:cNvSpPr/>
          <p:nvPr/>
        </p:nvSpPr>
        <p:spPr>
          <a:xfrm>
            <a:off x="4038480" y="6324480"/>
            <a:ext cx="19814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结    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120" y="2971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本章到此结束，谢谢您的光临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19320" y="1523880"/>
            <a:ext cx="731520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【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6.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】在屏幕上显示一个开动的汽车如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6.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所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源程序如下：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AT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SEG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CAR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B 7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字符图形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52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0B1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0DB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0DB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F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F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4548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．程序举例</a:t>
            </a:r>
            <a:br>
              <a:rPr sz="3200"/>
            </a:b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838080"/>
            <a:ext cx="4648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990720"/>
            <a:ext cx="731520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CHAR_CNT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W ?                  POINTER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W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LINE_ON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B ?                   COL_ON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B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AT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E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EG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SSUME C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OD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RO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FAR                 PUSH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U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XPUS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初始化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2590920"/>
            <a:ext cx="502920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762120"/>
            <a:ext cx="7010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置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00×20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彩色图形方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             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1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B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置背景颜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             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B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B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设置彩色调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1           MO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B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AL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LEAR_SCREE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；清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4114800" y="6324480"/>
            <a:ext cx="198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98d43"/>
                </a:solidFill>
                <a:uFillTx/>
                <a:latin typeface="Times New Roman"/>
                <a:ea typeface="方正舒体"/>
                <a:hlinkClick r:id="rId1" action="ppaction://hlinksldjump"/>
              </a:rPr>
              <a:t>上 一 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新人电脑</cp:lastModifiedBy>
  <dcterms:modified xsi:type="dcterms:W3CDTF">2001-11-13T08:01:42Z</dcterms:modified>
  <cp:revision>27</cp:revision>
  <dc:subject/>
  <dc:title>PowerPoint 演示文稿</dc:title>
</cp:coreProperties>
</file>